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907588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6555-55C4-4437-A3F5-D8675B11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DD02-6EB1-4B3A-95AE-63A4E671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1C44-81D8-46EE-BE1D-9E35124C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81A-359E-4C4F-9164-29059AA3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CAF9-1F93-49D4-BF82-658C1CA6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7018-1B6A-4597-9E7B-63FE053D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8B8F-67F5-4A88-B3BE-0D2E5D8D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3C2E-92DE-4089-9CF9-561CE508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D5DD-8E77-4699-BD83-A12FD500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0C39-D8D1-463A-A646-4FA76370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69D4-FA46-4BF4-B941-6BB35A4B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5FE6-4D7F-41E2-8E0C-324B2E07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6B12-D4D7-4FA2-A83B-95FA5234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975B-14A2-43A9-8F58-5C2E7BFC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2A4E-96E8-4401-B23E-EF1668F5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4796-B91B-4C01-990F-0E8B0FDD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D192-18E7-40D3-9B2B-0413B0B2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E94E-3A08-4E83-8521-006A4404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200-A5C6-431C-AFDD-655B4F4F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0BC8-EA09-45A0-BB7E-0FB18677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608B-D47D-46AA-A394-83B032B1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B26A-38E8-4FB9-9A65-352E98C3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D9D-7ED4-44BB-B65B-019270EA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ACD3-EC57-4654-B95B-8B9818C9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09080" y="1440"/>
            <a:ext cx="19000440" cy="13690440"/>
            <a:chOff x="-9109080" y="1440"/>
            <a:chExt cx="19000440" cy="13690440"/>
          </a:xfrm>
        </p:grpSpPr>
        <p:sp>
          <p:nvSpPr>
            <p:cNvPr id="1" name=""/>
            <p:cNvSpPr/>
            <p:nvPr/>
          </p:nvSpPr>
          <p:spPr>
            <a:xfrm>
              <a:off x="5835600" y="1585800"/>
              <a:ext cx="405576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109080" y="1440"/>
              <a:ext cx="1821816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5824-F3ED-43F7-96CC-00C21DB061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8407080" y="1460520"/>
            <a:ext cx="18312840" cy="10794600"/>
            <a:chOff x="-8407080" y="1460520"/>
            <a:chExt cx="18312840" cy="10794600"/>
          </a:xfrm>
        </p:grpSpPr>
        <p:sp>
          <p:nvSpPr>
            <p:cNvPr id="45" name=""/>
            <p:cNvSpPr/>
            <p:nvPr/>
          </p:nvSpPr>
          <p:spPr>
            <a:xfrm>
              <a:off x="3544560" y="2709720"/>
              <a:ext cx="636120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8407080" y="1460520"/>
              <a:ext cx="1457244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148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6BCB-755F-449F-81D2-3ABBD369DE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H="1" flipV="1">
            <a:off x="4521240" y="4941360"/>
            <a:ext cx="1835280" cy="1116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540320" y="4114800"/>
            <a:ext cx="0" cy="83808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1520" y="4114800"/>
            <a:ext cx="13208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8172360" y="3124080"/>
            <a:ext cx="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219480" y="3124080"/>
            <a:ext cx="49528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201840" y="1599840"/>
            <a:ext cx="0" cy="1523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568520" y="1619280"/>
            <a:ext cx="1650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686640" y="243792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19480" y="2057400"/>
            <a:ext cx="10731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292640" y="1523880"/>
            <a:ext cx="0" cy="533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7680" y="457200"/>
            <a:ext cx="9410760" cy="6019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13600" y="4292640"/>
            <a:ext cx="18003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ANIAPURAM SUMP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 PROPOSED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12.0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30.2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FVL    : 128.2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32.2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37240" y="3409920"/>
            <a:ext cx="16509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HOUSING BOAR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12.45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30.1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42.1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46.7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990720"/>
            <a:ext cx="16509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MC COLON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3.0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27.13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39.13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42.63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21240" y="914400"/>
            <a:ext cx="16509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DHOBHI KHANN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4.0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127.7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39.71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43.3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7800" y="1905120"/>
            <a:ext cx="16509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GRAVE YAR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10.0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25.0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39.0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42.5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92200"/>
            <a:ext cx="10687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ELUR CWSS – AVANIAPURAM MUNICIPALITY IN MADURAI DISTRI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LOW DIA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06720" y="5300640"/>
            <a:ext cx="325440" cy="303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6720" y="5715000"/>
            <a:ext cx="325440" cy="30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9960" y="530064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XIS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9960" y="571644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ROPOS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423120" y="1981080"/>
            <a:ext cx="495000" cy="457200"/>
            <a:chOff x="6423120" y="1981080"/>
            <a:chExt cx="495000" cy="457200"/>
          </a:xfrm>
        </p:grpSpPr>
        <p:sp>
          <p:nvSpPr>
            <p:cNvPr id="109" name=""/>
            <p:cNvSpPr/>
            <p:nvPr/>
          </p:nvSpPr>
          <p:spPr>
            <a:xfrm>
              <a:off x="6493680" y="218088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93680" y="225072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6679080" y="224136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93680" y="236520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79080" y="217152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6679080" y="235836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66640" y="21808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31400" y="198108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423120" y="2019240"/>
              <a:ext cx="486000" cy="180000"/>
              <a:chOff x="6423120" y="2019240"/>
              <a:chExt cx="486000" cy="180000"/>
            </a:xfrm>
          </p:grpSpPr>
          <p:sp>
            <p:nvSpPr>
              <p:cNvPr id="118" name=""/>
              <p:cNvSpPr/>
              <p:nvPr/>
            </p:nvSpPr>
            <p:spPr>
              <a:xfrm>
                <a:off x="6450480" y="201924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23120" y="217080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" name=""/>
          <p:cNvSpPr/>
          <p:nvPr/>
        </p:nvSpPr>
        <p:spPr>
          <a:xfrm>
            <a:off x="6356520" y="4648320"/>
            <a:ext cx="742680" cy="5331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1520" y="4114800"/>
            <a:ext cx="0" cy="533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282920" y="3686040"/>
            <a:ext cx="495000" cy="457200"/>
            <a:chOff x="4282920" y="3686040"/>
            <a:chExt cx="495000" cy="457200"/>
          </a:xfrm>
        </p:grpSpPr>
        <p:sp>
          <p:nvSpPr>
            <p:cNvPr id="123" name=""/>
            <p:cNvSpPr/>
            <p:nvPr/>
          </p:nvSpPr>
          <p:spPr>
            <a:xfrm>
              <a:off x="4353480" y="388584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53480" y="395568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538880" y="394632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53480" y="407016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880" y="387648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538880" y="406332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26440" y="388584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91200" y="368604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282920" y="3724200"/>
              <a:ext cx="486000" cy="180000"/>
              <a:chOff x="4282920" y="3724200"/>
              <a:chExt cx="486000" cy="180000"/>
            </a:xfrm>
          </p:grpSpPr>
          <p:sp>
            <p:nvSpPr>
              <p:cNvPr id="132" name=""/>
              <p:cNvSpPr/>
              <p:nvPr/>
            </p:nvSpPr>
            <p:spPr>
              <a:xfrm>
                <a:off x="4310280" y="372420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282920" y="387576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1109520" y="1495440"/>
            <a:ext cx="495000" cy="457200"/>
            <a:chOff x="1109520" y="1495440"/>
            <a:chExt cx="495000" cy="457200"/>
          </a:xfrm>
        </p:grpSpPr>
        <p:sp>
          <p:nvSpPr>
            <p:cNvPr id="135" name=""/>
            <p:cNvSpPr/>
            <p:nvPr/>
          </p:nvSpPr>
          <p:spPr>
            <a:xfrm>
              <a:off x="1180080" y="169524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80080" y="176508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1365480" y="175572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80080" y="187956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65480" y="168588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365480" y="187272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53040" y="169524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17800" y="149544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109520" y="1533600"/>
              <a:ext cx="486000" cy="180000"/>
              <a:chOff x="1109520" y="1533600"/>
              <a:chExt cx="486000" cy="180000"/>
            </a:xfrm>
          </p:grpSpPr>
          <p:sp>
            <p:nvSpPr>
              <p:cNvPr id="144" name=""/>
              <p:cNvSpPr/>
              <p:nvPr/>
            </p:nvSpPr>
            <p:spPr>
              <a:xfrm>
                <a:off x="1136880" y="153360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09520" y="168516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4029120" y="1042920"/>
            <a:ext cx="495000" cy="457200"/>
            <a:chOff x="4029120" y="1042920"/>
            <a:chExt cx="495000" cy="457200"/>
          </a:xfrm>
        </p:grpSpPr>
        <p:sp>
          <p:nvSpPr>
            <p:cNvPr id="147" name=""/>
            <p:cNvSpPr/>
            <p:nvPr/>
          </p:nvSpPr>
          <p:spPr>
            <a:xfrm>
              <a:off x="4099680" y="124272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99680" y="131256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285080" y="130320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99680" y="142704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85080" y="12333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285080" y="142020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72640" y="124272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37400" y="104292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4029120" y="1081080"/>
              <a:ext cx="486000" cy="180000"/>
              <a:chOff x="4029120" y="1081080"/>
              <a:chExt cx="486000" cy="180000"/>
            </a:xfrm>
          </p:grpSpPr>
          <p:sp>
            <p:nvSpPr>
              <p:cNvPr id="156" name=""/>
              <p:cNvSpPr/>
              <p:nvPr/>
            </p:nvSpPr>
            <p:spPr>
              <a:xfrm>
                <a:off x="4056480" y="108108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029120" y="123264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1882800" y="1384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786/167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5238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6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82800" y="1600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68520" y="184464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325/68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10666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35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68520" y="206064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59160" y="1916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30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31845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15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0520" y="2897280"/>
            <a:ext cx="107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111/236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97280" y="3112920"/>
            <a:ext cx="10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2743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8/47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08880" y="27273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21680" y="3581280"/>
            <a:ext cx="90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3581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319/28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2133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5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83160" y="419256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81/336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54440" y="4365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36576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4952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06800" y="49417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3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26160" y="4724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81/336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92520" y="5443920"/>
            <a:ext cx="838080" cy="252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28880" y="5300640"/>
            <a:ext cx="14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 MAIN 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5943240"/>
            <a:ext cx="838080" cy="2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65600" y="57913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 MAIN 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56160" y="5162400"/>
            <a:ext cx="17287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.0  HP OW SUB P’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- 1581 LPM x  2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2.5 HP OW SUB P’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- 1319 LPM x  2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F78-4D83-4A58-8A94-88083D1BC17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743360" y="3462480"/>
            <a:ext cx="743040" cy="5331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19720" y="2255760"/>
            <a:ext cx="18158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SANDHA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PROPOSED SUMP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14.9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22.4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FVL    : 120.4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24.4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86400" y="3157200"/>
            <a:ext cx="1219320" cy="60948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667560" y="3030480"/>
            <a:ext cx="494280" cy="456480"/>
            <a:chOff x="6667560" y="3030480"/>
            <a:chExt cx="494280" cy="456480"/>
          </a:xfrm>
        </p:grpSpPr>
        <p:sp>
          <p:nvSpPr>
            <p:cNvPr id="188" name=""/>
            <p:cNvSpPr/>
            <p:nvPr/>
          </p:nvSpPr>
          <p:spPr>
            <a:xfrm>
              <a:off x="6737400" y="3230280"/>
              <a:ext cx="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37400" y="3300120"/>
              <a:ext cx="19584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923880" y="3290400"/>
              <a:ext cx="1861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37400" y="3414600"/>
              <a:ext cx="186120" cy="2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23880" y="3220920"/>
              <a:ext cx="0" cy="26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923880" y="3407760"/>
              <a:ext cx="1861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10000" y="32302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75840" y="3030480"/>
              <a:ext cx="486000" cy="284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6667560" y="3068280"/>
              <a:ext cx="484200" cy="180360"/>
              <a:chOff x="6667560" y="3068280"/>
              <a:chExt cx="484200" cy="180360"/>
            </a:xfrm>
          </p:grpSpPr>
          <p:sp>
            <p:nvSpPr>
              <p:cNvPr id="197" name=""/>
              <p:cNvSpPr/>
              <p:nvPr/>
            </p:nvSpPr>
            <p:spPr>
              <a:xfrm>
                <a:off x="6694920" y="3068280"/>
                <a:ext cx="438480" cy="1706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667560" y="3220200"/>
                <a:ext cx="484200" cy="284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6337440" y="1828800"/>
            <a:ext cx="18158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SANDHA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(PROPOSED SR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CAP     : 2.00  L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AV GL : 122.42 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LWL    : 138.42 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MWL   : 141.92 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5880" y="3462480"/>
            <a:ext cx="381240" cy="72864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134040" y="4191120"/>
            <a:ext cx="495000" cy="457200"/>
            <a:chOff x="6134040" y="4191120"/>
            <a:chExt cx="495000" cy="457200"/>
          </a:xfrm>
        </p:grpSpPr>
        <p:sp>
          <p:nvSpPr>
            <p:cNvPr id="202" name=""/>
            <p:cNvSpPr/>
            <p:nvPr/>
          </p:nvSpPr>
          <p:spPr>
            <a:xfrm>
              <a:off x="6204600" y="439092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4600" y="446076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390000" y="445140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04600" y="457524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90000" y="43815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390000" y="456840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77560" y="439092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42320" y="419112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6134040" y="4229280"/>
              <a:ext cx="486000" cy="180000"/>
              <a:chOff x="6134040" y="4229280"/>
              <a:chExt cx="486000" cy="180000"/>
            </a:xfrm>
          </p:grpSpPr>
          <p:sp>
            <p:nvSpPr>
              <p:cNvPr id="211" name=""/>
              <p:cNvSpPr/>
              <p:nvPr/>
            </p:nvSpPr>
            <p:spPr>
              <a:xfrm>
                <a:off x="6161400" y="422928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134040" y="438084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6591240" y="4008600"/>
            <a:ext cx="14860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SANDHAI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SR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1.0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22.4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34.4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37.9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957800">
            <a:off x="5319000" y="3606480"/>
            <a:ext cx="103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326/67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9957800">
            <a:off x="5953680" y="3314520"/>
            <a:ext cx="103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210/44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3487200">
            <a:off x="5793840" y="3650400"/>
            <a:ext cx="10321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116/23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100 DI K7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20092800">
            <a:off x="5309280" y="3276360"/>
            <a:ext cx="137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100 DI K7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95560" y="3413160"/>
            <a:ext cx="172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3 .0 HP OW SUB P’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- 326 LPM x  2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2.5 HP OW SUB P’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288 LPM x 2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.0 HP OW SUB P’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- 819 LPM x 28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4025880"/>
            <a:ext cx="0" cy="13716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5384880"/>
            <a:ext cx="266688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362320" y="1295280"/>
            <a:ext cx="0" cy="41148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599840" y="2514600"/>
            <a:ext cx="76212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914040" y="914040"/>
            <a:ext cx="685800" cy="16002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20560" y="2526840"/>
            <a:ext cx="1067040" cy="20574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14600" y="1689120"/>
            <a:ext cx="18162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PTY OFF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SR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7.0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26.2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38.2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41.2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666880" y="1219320"/>
            <a:ext cx="495000" cy="457200"/>
            <a:chOff x="2666880" y="1219320"/>
            <a:chExt cx="495000" cy="457200"/>
          </a:xfrm>
        </p:grpSpPr>
        <p:sp>
          <p:nvSpPr>
            <p:cNvPr id="227" name=""/>
            <p:cNvSpPr/>
            <p:nvPr/>
          </p:nvSpPr>
          <p:spPr>
            <a:xfrm>
              <a:off x="2737440" y="141912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37440" y="148896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2922840" y="147960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37440" y="160344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22840" y="14097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922840" y="159660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10400" y="141912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75160" y="121932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666880" y="1257480"/>
              <a:ext cx="486000" cy="180000"/>
              <a:chOff x="2666880" y="1257480"/>
              <a:chExt cx="486000" cy="180000"/>
            </a:xfrm>
          </p:grpSpPr>
          <p:sp>
            <p:nvSpPr>
              <p:cNvPr id="236" name=""/>
              <p:cNvSpPr/>
              <p:nvPr/>
            </p:nvSpPr>
            <p:spPr>
              <a:xfrm>
                <a:off x="2694240" y="125748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666880" y="140904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" name=""/>
          <p:cNvSpPr/>
          <p:nvPr/>
        </p:nvSpPr>
        <p:spPr>
          <a:xfrm>
            <a:off x="2362320" y="1295280"/>
            <a:ext cx="30456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92240" y="241200"/>
            <a:ext cx="16509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JAWAHAR NAG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SR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3.0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27.13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39.13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42.13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91960" y="762120"/>
            <a:ext cx="495000" cy="457200"/>
            <a:chOff x="291960" y="762120"/>
            <a:chExt cx="495000" cy="457200"/>
          </a:xfrm>
        </p:grpSpPr>
        <p:sp>
          <p:nvSpPr>
            <p:cNvPr id="241" name=""/>
            <p:cNvSpPr/>
            <p:nvPr/>
          </p:nvSpPr>
          <p:spPr>
            <a:xfrm>
              <a:off x="362520" y="96192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2520" y="103176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547920" y="102240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2520" y="114624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7920" y="9525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47920" y="113940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5480" y="96192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0240" y="76212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91960" y="800280"/>
              <a:ext cx="486000" cy="180000"/>
              <a:chOff x="291960" y="800280"/>
              <a:chExt cx="486000" cy="180000"/>
            </a:xfrm>
          </p:grpSpPr>
          <p:sp>
            <p:nvSpPr>
              <p:cNvPr id="250" name=""/>
              <p:cNvSpPr/>
              <p:nvPr/>
            </p:nvSpPr>
            <p:spPr>
              <a:xfrm>
                <a:off x="319320" y="80028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91960" y="95184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2" name=""/>
          <p:cNvSpPr/>
          <p:nvPr/>
        </p:nvSpPr>
        <p:spPr>
          <a:xfrm flipH="1">
            <a:off x="761760" y="914400"/>
            <a:ext cx="15228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5234040"/>
            <a:ext cx="1816200" cy="11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MOHAMADSHA PURA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(EXISTING  SR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CAP     : 5.00  L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AV GL : 125.75 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LWL    : 137.75 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MWL   : 140.75 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04920" y="4545000"/>
            <a:ext cx="495000" cy="457200"/>
            <a:chOff x="304920" y="4545000"/>
            <a:chExt cx="495000" cy="457200"/>
          </a:xfrm>
        </p:grpSpPr>
        <p:sp>
          <p:nvSpPr>
            <p:cNvPr id="255" name=""/>
            <p:cNvSpPr/>
            <p:nvPr/>
          </p:nvSpPr>
          <p:spPr>
            <a:xfrm>
              <a:off x="375480" y="47448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5480" y="481464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560880" y="480528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5480" y="492912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0880" y="47354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60880" y="492228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8440" y="47448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3200" y="454500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304920" y="4583160"/>
              <a:ext cx="486000" cy="180000"/>
              <a:chOff x="304920" y="4583160"/>
              <a:chExt cx="486000" cy="180000"/>
            </a:xfrm>
          </p:grpSpPr>
          <p:sp>
            <p:nvSpPr>
              <p:cNvPr id="264" name=""/>
              <p:cNvSpPr/>
              <p:nvPr/>
            </p:nvSpPr>
            <p:spPr>
              <a:xfrm>
                <a:off x="332280" y="458316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04920" y="473472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152280" y="127944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15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12286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27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547056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5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76520" y="25146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6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23464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7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280" y="497844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77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0400" y="50896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288 / 51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71600" y="27432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992 / 197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36576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626 / 12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16002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366 / 7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158436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296 / 313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81480" y="4025880"/>
            <a:ext cx="0" cy="13716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81480" y="5359320"/>
            <a:ext cx="358164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924320" y="3276360"/>
            <a:ext cx="838440" cy="20574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763120" y="5346720"/>
            <a:ext cx="68580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448920" y="5334120"/>
            <a:ext cx="0" cy="53316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924680" y="1295280"/>
            <a:ext cx="0" cy="198144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19920" y="533520"/>
            <a:ext cx="1904760" cy="76176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924680" y="609120"/>
            <a:ext cx="1295640" cy="6858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365040"/>
            <a:ext cx="17337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KARPAGA NAG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SR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3.0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24.82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36.82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39.82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600880" y="380880"/>
            <a:ext cx="494640" cy="457200"/>
            <a:chOff x="5600880" y="380880"/>
            <a:chExt cx="494640" cy="457200"/>
          </a:xfrm>
        </p:grpSpPr>
        <p:sp>
          <p:nvSpPr>
            <p:cNvPr id="288" name=""/>
            <p:cNvSpPr/>
            <p:nvPr/>
          </p:nvSpPr>
          <p:spPr>
            <a:xfrm>
              <a:off x="5671080" y="58068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71080" y="65052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5856840" y="641160"/>
              <a:ext cx="1872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71080" y="76500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56840" y="57132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856840" y="758160"/>
              <a:ext cx="18720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44400" y="5806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09160" y="380880"/>
              <a:ext cx="48636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600880" y="419040"/>
              <a:ext cx="485640" cy="180000"/>
              <a:chOff x="5600880" y="419040"/>
              <a:chExt cx="485640" cy="180000"/>
            </a:xfrm>
          </p:grpSpPr>
          <p:sp>
            <p:nvSpPr>
              <p:cNvPr id="297" name=""/>
              <p:cNvSpPr/>
              <p:nvPr/>
            </p:nvSpPr>
            <p:spPr>
              <a:xfrm>
                <a:off x="5628240" y="419040"/>
                <a:ext cx="43992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00880" y="570600"/>
                <a:ext cx="48564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8381880" y="1079640"/>
            <a:ext cx="18162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SONAIMEENA NAG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PROPOSED SR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2.0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22.99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38.995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42.99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9169560" y="457200"/>
            <a:ext cx="493920" cy="456480"/>
            <a:chOff x="9169560" y="457200"/>
            <a:chExt cx="493920" cy="456480"/>
          </a:xfrm>
        </p:grpSpPr>
        <p:sp>
          <p:nvSpPr>
            <p:cNvPr id="301" name=""/>
            <p:cNvSpPr/>
            <p:nvPr/>
          </p:nvSpPr>
          <p:spPr>
            <a:xfrm>
              <a:off x="9239400" y="657000"/>
              <a:ext cx="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239400" y="726840"/>
              <a:ext cx="19548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9425520" y="717120"/>
              <a:ext cx="1861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239400" y="841320"/>
              <a:ext cx="186120" cy="2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425520" y="647640"/>
              <a:ext cx="0" cy="26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9425520" y="834480"/>
              <a:ext cx="1861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611640" y="6570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177840" y="457200"/>
              <a:ext cx="485640" cy="284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9169560" y="495000"/>
              <a:ext cx="483840" cy="180360"/>
              <a:chOff x="9169560" y="495000"/>
              <a:chExt cx="483840" cy="180360"/>
            </a:xfrm>
          </p:grpSpPr>
          <p:sp>
            <p:nvSpPr>
              <p:cNvPr id="310" name=""/>
              <p:cNvSpPr/>
              <p:nvPr/>
            </p:nvSpPr>
            <p:spPr>
              <a:xfrm>
                <a:off x="9196920" y="495000"/>
                <a:ext cx="438120" cy="1706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9169560" y="646920"/>
                <a:ext cx="483840" cy="284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2" name=""/>
          <p:cNvSpPr/>
          <p:nvPr/>
        </p:nvSpPr>
        <p:spPr>
          <a:xfrm>
            <a:off x="7848720" y="5651640"/>
            <a:ext cx="18158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SOUTH STRE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SR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2.0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22.38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34.385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37.38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9182160" y="5819760"/>
            <a:ext cx="495000" cy="457200"/>
            <a:chOff x="9182160" y="5819760"/>
            <a:chExt cx="495000" cy="457200"/>
          </a:xfrm>
        </p:grpSpPr>
        <p:sp>
          <p:nvSpPr>
            <p:cNvPr id="314" name=""/>
            <p:cNvSpPr/>
            <p:nvPr/>
          </p:nvSpPr>
          <p:spPr>
            <a:xfrm>
              <a:off x="9252720" y="601956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252720" y="608940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9438120" y="608004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252720" y="620388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438120" y="601020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9438120" y="619704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625680" y="601956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190440" y="581976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9182160" y="5857920"/>
              <a:ext cx="486000" cy="180000"/>
              <a:chOff x="9182160" y="5857920"/>
              <a:chExt cx="486000" cy="180000"/>
            </a:xfrm>
          </p:grpSpPr>
          <p:sp>
            <p:nvSpPr>
              <p:cNvPr id="323" name=""/>
              <p:cNvSpPr/>
              <p:nvPr/>
            </p:nvSpPr>
            <p:spPr>
              <a:xfrm>
                <a:off x="9209520" y="585792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9182160" y="600948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>
            <a:off x="6248520" y="5410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819 / 166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001000" y="50896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8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1219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13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991720" y="2286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195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86400" y="82224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7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067680" y="638496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5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534520" y="5410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35 / 47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001000" y="3505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584 / 119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924680" y="59364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18 / 44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477120" y="5335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366 / 7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360" y="0"/>
            <a:ext cx="979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MELUR CWSS – THIRUMANGALAM  MUNICIPALITY IN MADURAI  DISTRICT FLOW DIAGR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350 DI K7 C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23880" y="22860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300 DI K7 C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19051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K7 C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71600" y="173664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350 DI K7 C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8080" y="3886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50 DI K7 C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760" y="0"/>
            <a:ext cx="9829800" cy="6858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24480" y="56386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0 DI K7 C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001000" y="3124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K7 C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848720" y="41904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K7 C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763120" y="50896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K7 C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05720" y="66996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K7 C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10280" y="1523880"/>
            <a:ext cx="137160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010280" y="1676520"/>
            <a:ext cx="137160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162920" y="1447920"/>
            <a:ext cx="0" cy="3045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315200" y="1447920"/>
            <a:ext cx="0" cy="3045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67480" y="1447920"/>
            <a:ext cx="0" cy="3045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0120" y="1447920"/>
            <a:ext cx="0" cy="3045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772400" y="1447920"/>
            <a:ext cx="0" cy="3045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153280" y="1447920"/>
            <a:ext cx="0" cy="3045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01000" y="1447920"/>
            <a:ext cx="0" cy="3045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20120" y="3200400"/>
            <a:ext cx="152280" cy="152280"/>
          </a:xfrm>
          <a:prstGeom prst="plus">
            <a:avLst>
              <a:gd name="adj" fmla="val 25000"/>
            </a:avLst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162920" y="341316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THEVAR STATU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89EE-B3FE-424D-BD90-E21E9A9D674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08:50:02Z</dcterms:created>
  <dc:creator> twad</dc:creator>
  <dc:description/>
  <dc:language>en-US</dc:language>
  <cp:lastModifiedBy>PF1</cp:lastModifiedBy>
  <dcterms:modified xsi:type="dcterms:W3CDTF">2010-12-24T13:15:47Z</dcterms:modified>
  <cp:revision>1282</cp:revision>
  <dc:subject/>
  <dc:title>PowerPoint Presentation</dc:title>
</cp:coreProperties>
</file>